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212-A5E0-43FE-BF39-A1EBCE5D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715-52FB-4932-9C20-D010A2BE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3D4-07B6-4BD1-ABDB-EDBAB65F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A77-592D-4283-B844-0E045F52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A739-8EDD-43D2-866A-30409323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D83C-46A6-4FD6-B52A-114A2AB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6393-48A6-40D1-B618-F5DAE9BA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3269-7469-4605-A724-3DAB627B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9289-4CAE-48DD-87DD-A97A6D62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870C-B746-4332-8B30-76F4E14E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8B9B-6660-4AA6-9863-D8933E71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FB4-C077-466A-AC0E-0F191004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969C-2F28-4928-A4D7-0CA869E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B288-4390-414F-98AC-FEEA001D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0C8A-BE79-4FBF-A39A-40689CAF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9FA9-0820-4C18-831D-B9E63F71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4278-00F0-424F-9CCF-9CDCF229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0B7-5686-4309-B626-827A2517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BF0-B220-4BA7-8C0D-D390788F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B9D-7954-483F-AF4A-89F7B5F7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2E2-A48F-4C3F-8F13-EAB16DD2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016-5244-4531-B4D0-2802374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249-7B55-4E6D-A10F-0CA1F1EC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1D8-180E-4A1A-BC3B-B2757D89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C63A-3F72-45C2-AC1F-7EDB3B426E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D20F-4A75-478F-9F2A-C1822ADC84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ZAJEMNE POŁOŻENIE PROSTYCH.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DCINKI PROSTOPADŁE, PROSTE PROSTOPADŁ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EŚLENIE PROSTYCH PROSTOPAD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26828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ysujemy prostą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62864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Do narysowanej prostej przykładamy ekier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989000"/>
            <a:ext cx="56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Rysujemy prostą n przy drugim boku ekier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3493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rzedłużamy linijką prostą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870440"/>
            <a:ext cx="655164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96360" y="4510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203640" y="3357720"/>
            <a:ext cx="1800000" cy="1512720"/>
            <a:chOff x="3203640" y="3357720"/>
            <a:chExt cx="1800000" cy="1512720"/>
          </a:xfrm>
        </p:grpSpPr>
        <p:sp>
          <p:nvSpPr>
            <p:cNvPr id="103" name=""/>
            <p:cNvSpPr/>
            <p:nvPr/>
          </p:nvSpPr>
          <p:spPr>
            <a:xfrm flipH="1">
              <a:off x="3850920" y="3934080"/>
              <a:ext cx="865080" cy="718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203640" y="3357720"/>
              <a:ext cx="1800000" cy="1512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021280" y="2935440"/>
            <a:ext cx="0" cy="1935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76640" y="2935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1280" y="4870440"/>
            <a:ext cx="0" cy="8985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708280"/>
            <a:ext cx="37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5. Końcowy rysu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85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n jest prostopadła do prostej k, co zapisujemy symbolicznie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ZAPAMIĘTAĆ NAZWĘ „PROSTOPADŁA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1640" y="3564000"/>
            <a:ext cx="400536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37000" y="3244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62280" y="1630440"/>
            <a:ext cx="0" cy="1935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7640" y="1630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62280" y="3565440"/>
            <a:ext cx="9360" cy="21132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11640" y="2124000"/>
            <a:ext cx="351000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ły sobie dwie pros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tóre cały dzień skak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k, że „nogi” ich bol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 zaba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ierwsza stał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uga ze zmęczenia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pad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sto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ad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DCINKI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3608280"/>
            <a:ext cx="368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1808280"/>
            <a:ext cx="0" cy="35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7360" y="3608280"/>
            <a:ext cx="2340000" cy="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550960"/>
            <a:ext cx="0" cy="220536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6280" y="36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360828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2394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459900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02360" y="1854360"/>
            <a:ext cx="351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wa odcinki s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gdy leżą na prostych prostopadł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57720" y="3789360"/>
            <a:ext cx="34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cinek LN je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odcinka MK, co symbolicznie zapisujemy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LN</a:t>
            </a:r>
            <a:r>
              <a:rPr b="1" lang="en-US" sz="2000" spc="-1" strike="noStrike">
                <a:solidFill>
                  <a:srgbClr val="6600ff"/>
                </a:solidFill>
                <a:latin typeface="Symbol"/>
                <a:ea typeface="Symbol"/>
              </a:rPr>
              <a:t>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M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11:02Z</dcterms:modified>
  <cp:revision>7</cp:revision>
  <dc:subject/>
  <dc:title>Slajd 1</dc:title>
</cp:coreProperties>
</file>